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2B3A-52BD-4188-A90B-8BD86B08F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BAB4-613C-467E-BE50-5B199C12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8843-BE19-45AC-AF57-16092F47D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32B6-2713-4BE3-AF1E-ECFCA9DC4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9017-BA27-43C7-92EF-A142B747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F7AA-983B-4EE4-847B-670C7A50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1CED-5CF1-4970-B1AE-8BE07351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3589-304A-4BE0-8362-5E0A7E7D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218E-FC1F-45E1-9CE1-8298E48D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2766-8D28-4407-8DDC-56AB7892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A857-C9EF-4475-87CA-AB505413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BC9E-3E90-42B4-8095-7CE90A80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8AEF-5BAA-49B5-AF04-92FF6CB1C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5148360" y="476280"/>
          <a:ext cx="3495600" cy="541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8360" y="476280"/>
                    <a:ext cx="3495600" cy="5410080"/>
                  </a:xfrm>
                  <a:prstGeom prst="rect">
                    <a:avLst/>
                  </a:prstGeom>
                  <a:ln w="57240">
                    <a:solidFill>
                      <a:srgbClr val="ff99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4932360" y="630864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lbertus Extra Bold"/>
              </a:rPr>
              <a:t>20 de noviembre de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333360"/>
            <a:ext cx="41036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66"/>
                </a:solidFill>
                <a:latin typeface="Arial"/>
              </a:rPr>
              <a:t>La eucaristía de su vida se culminó el 27 de abril de 1927 en el kilómetro 492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66"/>
                </a:solidFill>
                <a:latin typeface="Arial"/>
              </a:rPr>
              <a:t>en las inmedia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66"/>
                </a:solidFill>
                <a:latin typeface="Arial"/>
              </a:rPr>
              <a:t>del rancho de San Joaquí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66"/>
                </a:solidFill>
                <a:latin typeface="Arial"/>
              </a:rPr>
              <a:t>Los tres compañeros son fusilados a las 8.45 de la maña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66"/>
                </a:solidFill>
                <a:latin typeface="Arial"/>
              </a:rPr>
              <a:t>El P. Andrés Solá sobrev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66"/>
                </a:solidFill>
                <a:latin typeface="Arial"/>
              </a:rPr>
              <a:t>tres horas en una agoní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66"/>
                </a:solidFill>
                <a:latin typeface="Arial"/>
              </a:rPr>
              <a:t>que recuerda a la de Jesú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66"/>
                </a:solidFill>
                <a:latin typeface="Arial"/>
              </a:rPr>
              <a:t>Como él, también el P. Sol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66"/>
                </a:solidFill>
                <a:latin typeface="Arial"/>
              </a:rPr>
              <a:t>pide de beber para mitigar los ardores de la fiebre. Le dieron agua en un plato de barro. Repetía muchas vec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es-ES_tradnl" sz="2000" spc="-1" strike="noStrike">
                <a:solidFill>
                  <a:srgbClr val="ffff66"/>
                </a:solidFill>
                <a:latin typeface="Arial"/>
              </a:rPr>
              <a:t>Jesús, misericordi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66"/>
                </a:solidFill>
                <a:latin typeface="Arial"/>
              </a:rPr>
              <a:t>Jesús, perdóname”</a:t>
            </a:r>
            <a:r>
              <a:rPr b="1" lang="es-ES_tradnl" sz="2000" spc="-1" strike="noStrike">
                <a:solidFill>
                  <a:srgbClr val="ff9966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66"/>
                </a:solidFill>
                <a:latin typeface="Arial"/>
              </a:rPr>
              <a:t>Hacia el mediodía expir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66"/>
                </a:solidFill>
                <a:latin typeface="Arial"/>
              </a:rPr>
              <a:t>Era la hora sexta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9T17:40:51Z</dcterms:created>
  <dc:creator>Juan C Martos</dc:creator>
  <dc:description/>
  <dc:language>en-US</dc:language>
  <cp:lastModifiedBy>Juan C Martos</cp:lastModifiedBy>
  <dcterms:modified xsi:type="dcterms:W3CDTF">2005-11-19T17:51:31Z</dcterms:modified>
  <cp:revision>2</cp:revision>
  <dc:subject/>
  <dc:title>Diapositiva 1</dc:title>
</cp:coreProperties>
</file>