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E60-03FD-4CE2-AF3E-799E44D2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51E-4BDC-447F-BA36-514B2CC8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4AD-721C-448A-8D5D-DFEA8F62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4ED-CCD0-4CA3-B586-664E58C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16E-ACA6-4DBB-ADEB-8CA8F609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113-1F89-438A-9A68-CCECEA05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B81-027F-4AD9-A814-B6FB4641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69B-F841-4488-BDD3-82B853A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4D3-0E53-419C-A7A1-41704A1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EF1-1FE3-44BA-A09C-8FE0BFD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E12-EEB3-4FA8-B33B-09168D0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0F4-1A28-4B93-9444-DC9B244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D43-1080-4568-904D-5EB46E323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148360" y="476280"/>
          <a:ext cx="3495600" cy="541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476280"/>
                    <a:ext cx="3495600" cy="5410080"/>
                  </a:xfrm>
                  <a:prstGeom prst="rect">
                    <a:avLst/>
                  </a:prstGeom>
                  <a:ln w="57240">
                    <a:solidFill>
                      <a:srgbClr val="ff99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932360" y="6308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lbertus Extra Bold"/>
              </a:rPr>
              <a:t>20 de noviembre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4103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La eucaristía de su vida se culminó el 27 de abril de 1927 en el kilómetro 49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en las inmedi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del rancho de San Joaquí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Los tres compañeros son fusilados a las 8.45 de la maña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El P. Andrés Solá sobrev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tres horas en una agon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que recuerda a la de Jesú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Como él, también el P. Sol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pide de beber para mitigar los ardores de la fiebre. Le dieron agua en un plato de barro. Repetía muchas ve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Jesús, misericord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Jesús, perdóname”</a:t>
            </a: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Hacia el mediodía expir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Era la hora sext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7:40:51Z</dcterms:created>
  <dc:creator>Juan C Martos</dc:creator>
  <dc:description/>
  <dc:language>en-US</dc:language>
  <cp:lastModifiedBy>Juan C Martos</cp:lastModifiedBy>
  <dcterms:modified xsi:type="dcterms:W3CDTF">2005-11-19T17:51:31Z</dcterms:modified>
  <cp:revision>2</cp:revision>
  <dc:subject/>
  <dc:title>Diapositiva 1</dc:title>
</cp:coreProperties>
</file>